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4.png" ContentType="image/png"/>
  <Override PartName="/ppt/media/image1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A7A4-8534-4D14-AE78-2D6280BA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DA6A-74F1-4104-BC19-4948624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DD55-72B8-43D9-80B5-7CCC7247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E0AB-766B-4C8B-9977-DE5F40FA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ECE-29F9-44EE-B346-27A0A72B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A60B-E084-44E3-9862-C31697F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F4C7-EC80-4614-91DB-921F0DE6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89F1-AF6F-4EB0-8DF0-1C42AA6F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8D0B-F162-48F9-A99F-12A4890B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BF3-9B58-4A3F-9A54-0B7F323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BBF6-A97D-444C-AD5D-940ED9E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DD2A-D79B-44F9-A6B0-A7F16F91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E200-870E-42F5-B139-1CC3040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012-C9C9-4B78-80CF-65B09AE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ED34-252F-4D94-AD8A-8CF80010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2DBA-00A2-46A4-B4A7-0EB8BF3F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F1B9-3FAE-4C3B-9472-ACE65F0C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4013-BEE8-4BCF-A40F-11F050D6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4D9F-321F-4E6E-A90A-4CA6EF83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836B-70A3-4EDA-84B0-19F2A376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DD1E-6671-431A-8215-9281D246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7837-E2DA-4F50-B266-80AB1445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35C5-1352-4996-A027-F051938B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4645-C3DE-40B3-85AB-9081F91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4CB4-7728-491E-B1A2-A5E1B75B0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AF2-51E6-4408-A972-752979909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cclaimimages.com/_gallery/_SM/0001-0208-2308-3718_SM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acclaimimages.com/_gallery/_SM/0001-0312-1111-0305_SM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eb.jjay.cuny.edu/~acarpi/NSC/images/protexch.gif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tes: Basic Chemist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: The Chemistry of Lif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urface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410080" y="762120"/>
            <a:ext cx="3514680" cy="3125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10080" y="4572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skippers on a 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5568-DFBF-482F-ACE2-9B506CCBA2F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he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ater sticks to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3886200" cy="268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191120" y="2635200"/>
            <a:ext cx="4952880" cy="3855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410080" y="228600"/>
            <a:ext cx="350388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B239-F6CE-4C40-9DAB-4E3A707FC858}" type="slidenum">
              <a:t>11</a:t>
            </a:fld>
          </a:p>
        </p:txBody>
      </p:sp>
    </p:spTree>
  </p:cSld>
  <p:transition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dhe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water sticks to other th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5867640" cy="3479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89040" cy="3371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22A1-2B56-4261-9985-C40FA159B75E}" type="slidenum">
              <a:t>12</a:t>
            </a:fld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 Mixtures and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bination of substances in which each substance retains its chem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and and 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bination in which one substance is dissolved into the 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ocolate milk, ocea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Photos of Sand Dunes at Death Va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1600200"/>
            <a:ext cx="1828800" cy="2590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Photo of Sunset Cliffs Waves, Pt Loma, San Diego, Californ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267080"/>
            <a:ext cx="1905120" cy="237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2443-95E3-4E7C-B2D6-79D1E479D614}" type="slidenum">
              <a:t>13</a:t>
            </a:fld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olu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he substance that is being dissolv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emonade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olv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he substance that the solute is being dissolved i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4680" y="208584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477120" y="2590920"/>
            <a:ext cx="1104840" cy="103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78884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5FFC-7F9C-4B99-B9B5-9153276956C0}" type="slidenum">
              <a:t>14</a:t>
            </a:fld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. Acids &amp; B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ter can break int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arged 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(H</a:t>
            </a:r>
            <a:r>
              <a:rPr b="1" lang="en-US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xi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(OH</a:t>
            </a:r>
            <a:r>
              <a:rPr b="1" lang="en-US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Compounds in solution with water cause water to break &amp; becom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Measure amount of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1" lang="en-US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lution give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5767-2EC2-45A7-BE3F-C0CC99484167}" type="slidenum">
              <a:t>15</a:t>
            </a:fld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orm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s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ixed with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7848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ydrochloric acid (HC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5280" y="6248520"/>
            <a:ext cx="4013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eb.jjay.cuny.edu/~acarpi/NSC/images/protexch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3881520" cy="34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D8A4-CCBC-407E-AB45-FA3BF251E908}" type="slidenum">
              <a:t>16</a:t>
            </a:fld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orm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xi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s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ixed with water.  Also referred to a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lkal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820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odium Hydroxide (NaO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505320" cy="31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8C60-BB7E-45A9-904E-EAC1B384396C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2438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number that measures how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id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bas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solution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5105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The scale ranges from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most acidic t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most basic or alkaline).  The number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neutr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C9A1-56E3-4152-945D-99CE6A84E1D0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the bottom of your notes, we are going to create a pH scale to use on our next labora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429000"/>
            <a:ext cx="640080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429000"/>
            <a:ext cx="45720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429000"/>
            <a:ext cx="457200" cy="7621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429000"/>
            <a:ext cx="45720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3429000"/>
            <a:ext cx="457200" cy="7621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3429000"/>
            <a:ext cx="457200" cy="762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429000"/>
            <a:ext cx="457200" cy="762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3429000"/>
            <a:ext cx="457200" cy="762120"/>
          </a:xfrm>
          <a:prstGeom prst="rect">
            <a:avLst/>
          </a:prstGeom>
          <a:solidFill>
            <a:srgbClr val="cc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3429000"/>
            <a:ext cx="457200" cy="76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429000"/>
            <a:ext cx="45720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3429000"/>
            <a:ext cx="4572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457200" cy="76212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429000"/>
            <a:ext cx="457200" cy="76212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429000"/>
            <a:ext cx="457200" cy="762120"/>
          </a:xfrm>
          <a:prstGeom prst="rect">
            <a:avLst/>
          </a:prstGeom>
          <a:solidFill>
            <a:srgbClr val="8c06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3429000"/>
            <a:ext cx="457200" cy="762120"/>
          </a:xfrm>
          <a:prstGeom prst="rect">
            <a:avLst/>
          </a:prstGeom>
          <a:solidFill>
            <a:srgbClr val="41013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648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FCD8-AD96-42F9-BC89-251F09C7C4A7}" type="slidenum">
              <a:t>19</a:t>
            </a:fld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tom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he basic building block f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tter.  The smallest unit of a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l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9200" y="30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3039840" cy="3352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685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.  Basic 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D58E-615B-46B8-9F1C-710ABDA41330}" type="slidenum">
              <a:t>2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A120-C4BA-4DD9-888C-DC7499C1E1A0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Parts of t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In the 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Protons (+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eutrons (neut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Outside the 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lectron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46960" y="2521080"/>
            <a:ext cx="2017440" cy="180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81480" y="2895480"/>
            <a:ext cx="1905120" cy="152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3581280"/>
            <a:ext cx="1295280" cy="152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19720" y="4419360"/>
            <a:ext cx="297180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2C79D-7365-473E-B92F-1C552E37A849}" type="slidenum">
              <a:t>4</a:t>
            </a:fld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How to Read the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349280"/>
            <a:ext cx="8229600" cy="5027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1143000"/>
            <a:ext cx="8458200" cy="525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2743200" cy="274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33920" y="1676520"/>
            <a:ext cx="1371600" cy="2135880"/>
            <a:chOff x="3733920" y="1676520"/>
            <a:chExt cx="1371600" cy="2135880"/>
          </a:xfrm>
        </p:grpSpPr>
        <p:sp>
          <p:nvSpPr>
            <p:cNvPr id="124" name=""/>
            <p:cNvSpPr/>
            <p:nvPr/>
          </p:nvSpPr>
          <p:spPr>
            <a:xfrm>
              <a:off x="3733920" y="205740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cc00"/>
                  </a:solidFill>
                  <a:latin typeface="Arial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1676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3920" y="3352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Arial"/>
                </a:rPr>
                <a:t>22.9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920" y="2971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362320" y="3200400"/>
            <a:ext cx="1371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971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OMIC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TOMIC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590920"/>
            <a:ext cx="137160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1828800"/>
            <a:ext cx="23619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76560" y="3886200"/>
            <a:ext cx="19047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219320"/>
            <a:ext cx="1828800" cy="2351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omic Numb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pr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electrons (if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809880"/>
            <a:ext cx="1828800" cy="2004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omic Mas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protons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7242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267080"/>
            <a:ext cx="5715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99ff"/>
                </a:solidFill>
                <a:uFillTx/>
                <a:latin typeface="Arial"/>
              </a:rPr>
              <a:t>Pract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</a:rPr>
              <a:t>How many protons, neutrons, and electrons does a neutral sodium atom ha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486400"/>
            <a:ext cx="66294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rotons = 11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lectrons = 11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eutrons = 23 – 11 = 12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0EE1-5F5B-41B9-977B-8B4411843A10}" type="slidenum">
              <a:t>5</a:t>
            </a:fld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Chemical Compou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ompound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ubstance formed by the chemical reaction of 2 or more elements in a definite propor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3962520"/>
          <a:ext cx="4038840" cy="226512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luc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drochlor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371600" y="3886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63F9-13F8-4D9D-8943-93BFBD1D5CB3}" type="slidenum">
              <a:t>6</a:t>
            </a:fld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7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ond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d from attract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between atoms to form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92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4C36-E9A3-48C6-843E-8527F6FB24D3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. Importance of Wat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77960" cy="1557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ost important substance f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ving things are abo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Water is required for ev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cal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Water is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Universal Sol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Water i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ar 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as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862520"/>
            <a:ext cx="2742840" cy="1996560"/>
            <a:chOff x="3124080" y="4862520"/>
            <a:chExt cx="2742840" cy="1996560"/>
          </a:xfrm>
        </p:grpSpPr>
        <p:grpSp>
          <p:nvGrpSpPr>
            <p:cNvPr id="150" name=""/>
            <p:cNvGrpSpPr/>
            <p:nvPr/>
          </p:nvGrpSpPr>
          <p:grpSpPr>
            <a:xfrm>
              <a:off x="3124080" y="4862520"/>
              <a:ext cx="2742840" cy="1775160"/>
              <a:chOff x="3124080" y="4862520"/>
              <a:chExt cx="2742840" cy="1775160"/>
            </a:xfrm>
          </p:grpSpPr>
          <p:sp>
            <p:nvSpPr>
              <p:cNvPr id="151" name=""/>
              <p:cNvSpPr/>
              <p:nvPr/>
            </p:nvSpPr>
            <p:spPr>
              <a:xfrm>
                <a:off x="4681080" y="4862520"/>
                <a:ext cx="1185840" cy="70056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46200" y="5236200"/>
                <a:ext cx="2446560" cy="14014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24080" y="4908960"/>
                <a:ext cx="1185840" cy="70056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87440" y="6030360"/>
                <a:ext cx="12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99"/>
                    </a:solidFill>
                    <a:latin typeface="Tahoma"/>
                  </a:rPr>
                  <a:t>Oxyg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24080" y="5048280"/>
                <a:ext cx="1185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Tahoma"/>
                  </a:rPr>
                  <a:t>Hydrog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81080" y="5002560"/>
                <a:ext cx="1185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Tahoma"/>
                  </a:rPr>
                  <a:t>Hydrog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420360" y="519156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9840" y="509616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32400" y="6216480"/>
              <a:ext cx="59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ff"/>
                  </a:solidFill>
                  <a:latin typeface="Tahoma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9CAE-D36A-4E42-9AA9-2C721C1392D1}" type="slidenum">
              <a:t>8</a:t>
            </a:fld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953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gen Bon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weak bond formed betwee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ds of water molecu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97280" cy="36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9BEB-F15E-4118-B6A8-45751D05CAA4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21:06:33Z</dcterms:created>
  <dc:creator>Edward Terzian, Jr.</dc:creator>
  <dc:description/>
  <dc:language>en-US</dc:language>
  <cp:lastModifiedBy>teacher</cp:lastModifiedBy>
  <cp:lastPrinted>2004-02-11T13:03:47Z</cp:lastPrinted>
  <dcterms:modified xsi:type="dcterms:W3CDTF">2009-02-05T18:01:54Z</dcterms:modified>
  <cp:revision>98</cp:revision>
  <dc:subject/>
  <dc:title>The Chemistry of Life</dc:title>
</cp:coreProperties>
</file>